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82C-C888-41F2-8599-6164B77D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2F7-E475-4A71-98E2-2F5D22AC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B56-0AE9-46BB-9C11-701AE7D2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FE1B-D9CC-4F39-99FB-DC4AA1F7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FAC-1CD6-4853-B0E1-27588231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DDA-F929-4273-9BF2-61185886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C70-E340-4F7C-B85F-CDCE65E2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538-1D6F-44E4-9393-CB95B29C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B13-4A57-4BAF-8E38-F3E8B077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ABC-0D38-4A4F-812E-7521DBD8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FA9-9F37-4F42-B2CE-94A63722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66E-4374-4EB9-BCA0-5589F2FA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5993-F841-4B04-B2C0-3CD931A27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9800" y="609480"/>
            <a:ext cx="6436800" cy="1008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THE ROCK CYC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47676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1880" y="533520"/>
            <a:ext cx="81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this diagram similar and different from your own sket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77240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7440" y="7621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5200" y="236232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72280" y="914400"/>
            <a:ext cx="4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18120" y="518148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rock is each process form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429000" cy="221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971800" cy="2120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1600200"/>
            <a:ext cx="2975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440" y="6019920"/>
            <a:ext cx="6383520" cy="581400"/>
          </a:xfrm>
          <a:prstGeom prst="rect">
            <a:avLst/>
          </a:prstGeom>
          <a:noFill/>
          <a:ln w="9360">
            <a:solidFill>
              <a:srgbClr val="ff21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</a:t>
            </a:r>
            <a:r>
              <a:rPr b="1" lang="en-US" sz="3200" spc="-1" strike="noStrike">
                <a:solidFill>
                  <a:srgbClr val="ff2134"/>
                </a:solidFill>
                <a:latin typeface="Times New Roman"/>
              </a:rPr>
              <a:t>IGNEOUS R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659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954680" y="1752480"/>
            <a:ext cx="3573000" cy="825480"/>
          </a:xfrm>
          <a:prstGeom prst="rect">
            <a:avLst/>
          </a:prstGeom>
          <a:noFill/>
          <a:ln w="9360">
            <a:solidFill>
              <a:srgbClr val="ff21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13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2134"/>
                </a:solidFill>
                <a:latin typeface="Times New Roman"/>
              </a:rPr>
              <a:t>Extrusive igneous ro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on or near the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5400" y="3962520"/>
            <a:ext cx="3385800" cy="825480"/>
          </a:xfrm>
          <a:prstGeom prst="rect">
            <a:avLst/>
          </a:prstGeom>
          <a:noFill/>
          <a:ln w="9360">
            <a:solidFill>
              <a:srgbClr val="ff21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134"/>
                </a:solidFill>
                <a:latin typeface="Times New Roman"/>
              </a:rPr>
              <a:t>Intrusive igneous ro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below the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4545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process is probably occurring here or did occur in the recent pa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3248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80600" y="5364000"/>
            <a:ext cx="6130440" cy="886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mpaction under wa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ing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DIMENTARY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1371600"/>
          </a:xfrm>
          <a:prstGeom prst="rect">
            <a:avLst/>
          </a:prstGeom>
          <a:noFill/>
          <a:ln w="9360">
            <a:solidFill>
              <a:srgbClr val="39d02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process is probably occurring deep under these mountai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24816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74360" y="5419800"/>
            <a:ext cx="7245720" cy="459720"/>
          </a:xfrm>
          <a:prstGeom prst="rect">
            <a:avLst/>
          </a:prstGeom>
          <a:noFill/>
          <a:ln w="9360">
            <a:solidFill>
              <a:srgbClr val="39d0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d02b"/>
                </a:solidFill>
                <a:latin typeface="Times New Roman"/>
              </a:rPr>
              <a:t>Heat &amp;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forming </a:t>
            </a:r>
            <a:r>
              <a:rPr b="1" lang="en-US" sz="2400" spc="-1" strike="noStrike">
                <a:solidFill>
                  <a:srgbClr val="39d02b"/>
                </a:solidFill>
                <a:latin typeface="Times New Roman"/>
              </a:rPr>
              <a:t>METAMORPHIC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32448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5791320"/>
            <a:ext cx="7772400" cy="838080"/>
          </a:xfrm>
          <a:prstGeom prst="rect">
            <a:avLst/>
          </a:prstGeom>
          <a:noFill/>
          <a:ln w="9360">
            <a:solidFill>
              <a:srgbClr val="ff213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process is probably occurring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93396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51160" y="5715000"/>
            <a:ext cx="6502320" cy="459720"/>
          </a:xfrm>
          <a:prstGeom prst="rect">
            <a:avLst/>
          </a:prstGeom>
          <a:noFill/>
          <a:ln w="9360">
            <a:solidFill>
              <a:srgbClr val="ff21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134"/>
                </a:solidFill>
                <a:latin typeface="Times New Roman"/>
              </a:rPr>
              <a:t>Melting &amp; Coo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forming </a:t>
            </a:r>
            <a:r>
              <a:rPr b="1" lang="en-US" sz="2400" spc="-1" strike="noStrike">
                <a:solidFill>
                  <a:srgbClr val="ff2134"/>
                </a:solidFill>
                <a:latin typeface="Times New Roman"/>
              </a:rPr>
              <a:t>IGNEOUS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7057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4:00:52Z</dcterms:created>
  <dc:creator>Eric Knapp</dc:creator>
  <dc:description/>
  <dc:language>en-US</dc:language>
  <cp:lastModifiedBy>staff</cp:lastModifiedBy>
  <cp:lastPrinted>2005-03-03T11:12:43Z</cp:lastPrinted>
  <dcterms:modified xsi:type="dcterms:W3CDTF">2008-01-07T15:09:52Z</dcterms:modified>
  <cp:revision>88</cp:revision>
  <dc:subject/>
  <dc:title>PowerPoint Presentation</dc:title>
</cp:coreProperties>
</file>